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7621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1FD17287-102D-4B60-94BD-7F9B39D86E4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1301760" y="3266640"/>
            <a:ext cx="7169040" cy="3056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Img"/>
          </p:nvPr>
        </p:nvSpPr>
        <p:spPr>
          <a:xfrm>
            <a:off x="3349440" y="515520"/>
            <a:ext cx="307476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9019080" y="6539040"/>
            <a:ext cx="86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6B53B8E4-B689-4028-8CB4-785E5375A9BE}" type="slidenum">
              <a:rPr b="0" lang="pt-BR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B7F4D5FD-B0FB-4EE3-AB5F-B4EA9AA5F43D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343320" y="514440"/>
            <a:ext cx="308592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ADF-1541-445C-8D8E-2722F301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F11-2053-442C-9BEE-F54020B0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06C-DC81-4862-B9E3-5CA24F24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9CE-2A67-439F-8A11-03D21F24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246-2332-4978-8B9A-C7C96839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749F-E498-4E15-A2D4-B04296FC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5093-43B5-4C77-B4BC-C9F20C4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81F5-C44F-4CE5-ABE2-D541365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FC96-1D70-42D9-9FAB-622A8B76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582-2577-4402-8D01-A89B07AD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2B3-42EB-4B51-8C68-37545BB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D68-7D4C-4F9E-8201-0C976D66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3FCE-44FD-461F-99B2-5E82FD7B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F84E-1468-4FC2-9CFC-1702F30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BD94-6872-4877-8765-6A2466D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2FA9-A3C6-4097-8ED6-55805167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62D0-0561-4B82-A847-9DEC919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B79-67D3-4365-8C78-E3C6E48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5C0-07E5-484C-BD23-3D9ED0E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DA3-D2AF-40BF-BAEF-89EF3A76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A7F-E9DC-4F65-9A98-5075DDA4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988-8B77-420A-AD51-D63C57A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C17-C8BD-4EED-853C-FC71187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6DC-0714-4DBB-A382-97F830C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1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94400"/>
            <a:ext cx="8745840" cy="181440"/>
            <a:chOff x="71280" y="194400"/>
            <a:chExt cx="8745840" cy="18144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088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0360" y="-4145040"/>
              <a:ext cx="6732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687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A7C-02B5-4EB5-B651-273E64303E0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57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017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665460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66864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664164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0B5-ADDA-4203-BB2A-24F3E3923C3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783080"/>
            <a:ext cx="8229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52840" cy="50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382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SECRETARIA NACIONAL DE DEFESA CIVI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35280" y="4386240"/>
            <a:ext cx="17416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2• CICLO EVOLUTIVO (1969 – 197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75640" y="2202120"/>
            <a:ext cx="2160360" cy="345744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EFESA CIVI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040" y="851040"/>
            <a:ext cx="3289320" cy="20001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C. N• 64.568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GRUPO DE TRABALHO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PARA ELABORAR PLANO DE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FESA PERMANENTE CONTRA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22 MAI 1969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70320"/>
            <a:ext cx="3948120" cy="22734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RETO LEI N• 95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FUN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FUNDO ESPECIAL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3 OUT 196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170000"/>
            <a:ext cx="3564000" cy="22399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• 67.347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GEA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GRUPO ESPECIAL 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ASSUNTOS DE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05 OUT 197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90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3• CICLO EVOLUTIVO (1979 – 198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4920" y="1170000"/>
            <a:ext cx="6192720" cy="16812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DECRETO Nº 83.83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CRIA A SECRETARIA ESPECIAL 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13 AGO 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49680"/>
            <a:ext cx="280836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THREE MILES ISLAND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3649680"/>
            <a:ext cx="280800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PRON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8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6"/>
            <a:endCxn id="163" idx="2"/>
          </p:cNvCxnSpPr>
          <p:nvPr/>
        </p:nvCxnSpPr>
        <p:spPr>
          <a:xfrm>
            <a:off x="3419640" y="3931920"/>
            <a:ext cx="223272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190600"/>
            <a:ext cx="8136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1, inciso XVIII - calamidades pública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2, incisos III e XXVIII – requisiçõe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civil defes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36 e 137 - estado de defesa /         sít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44 - segurança pública / c. bomb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1330200"/>
            <a:ext cx="58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TITUIÇÃO DA REPÚBLICA - 198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492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4• CICLO EVOLUTIVO (1992 - ...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251320"/>
            <a:ext cx="367164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º 89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STEM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6 AGO 1993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6560" y="5251320"/>
            <a:ext cx="352908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OLÍTIC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2 DEZ 1994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6"/>
            <a:endCxn id="170" idx="2"/>
          </p:cNvCxnSpPr>
          <p:nvPr/>
        </p:nvCxnSpPr>
        <p:spPr>
          <a:xfrm>
            <a:off x="4282560" y="5770080"/>
            <a:ext cx="86436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8360" y="1506600"/>
            <a:ext cx="8280360" cy="36003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CURSOS DE PÓS GRADUAÇÃ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FUNDAÇÃO GETÚLIO VARGAS – 199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UNIVERSIDADE FEDERAL DA PARAÍBA – 199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 Black"/>
              </a:rPr>
              <a:t>UNIVERSIDADE FEDERAL DE SANTA CATARINA - 200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46200" y="450720"/>
            <a:ext cx="65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entury Gothic"/>
              </a:rPr>
              <a:t>LIMITAÇÕES DO SISTEM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854440"/>
            <a:ext cx="816120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ONTINUIDADE DAS AÇÕES DE DEFESA CIVIL;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ÊNCIA DE TRABALHOS DE ENSINO, PESQUISA E EXTENSÃO;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INAMENTO E CAPACITAÇÃO DE RECURSOS   HUMANOS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TA DE VONTADE POLÍTICA E / OU INTERFERÊNCIAS POLÍTICAS EM QUESTÕES TÉCNICA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95120"/>
            <a:ext cx="9144000" cy="579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NDEC – Conselho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SEDEC – Secretaria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RDEC – Coordenadorias Region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EDEC – Coordenadorias Estadu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MDEC – Coordenadorias Municip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 Setoria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s de Apo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1981080"/>
            <a:ext cx="5410080" cy="1219320"/>
          </a:xfrm>
          <a:prstGeom prst="wedgeRectCallout">
            <a:avLst>
              <a:gd name="adj1" fmla="val -58833"/>
              <a:gd name="adj2" fmla="val -7044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Superior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Constituído por representantes dos Ministérios e da Presidência da Repúblic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743200"/>
            <a:ext cx="5029200" cy="1143000"/>
          </a:xfrm>
          <a:prstGeom prst="wedgeRectCallout">
            <a:avLst>
              <a:gd name="adj1" fmla="val -61236"/>
              <a:gd name="adj2" fmla="val -8375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Central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responsável pela coordenação e articulação do sistema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200400"/>
            <a:ext cx="4800600" cy="838080"/>
          </a:xfrm>
          <a:prstGeom prst="wedgeRectCallout">
            <a:avLst>
              <a:gd name="adj1" fmla="val -64185"/>
              <a:gd name="adj2" fmla="val -79546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Region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Não estão ativ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886200"/>
            <a:ext cx="6095880" cy="533520"/>
          </a:xfrm>
          <a:prstGeom prst="wedgeRectCallout">
            <a:avLst>
              <a:gd name="adj1" fmla="val -61092"/>
              <a:gd name="adj2" fmla="val -11131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Estaduais e do Distrit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95680"/>
            <a:ext cx="6705360" cy="1219320"/>
          </a:xfrm>
          <a:prstGeom prst="wedgeRectCallout">
            <a:avLst>
              <a:gd name="adj1" fmla="val -61032"/>
              <a:gd name="adj2" fmla="val -74217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Municip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governamentais e não- governamentais (Núcleos Comunitários de Defesa Civil – NUDEC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410080"/>
            <a:ext cx="7086600" cy="1219320"/>
          </a:xfrm>
          <a:prstGeom prst="wedgeRectCallout">
            <a:avLst>
              <a:gd name="adj1" fmla="val 5958"/>
              <a:gd name="adj2" fmla="val -97398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Órgãos e entidades da Administração Pública Federal, dos Estados,  do Distrito Federal e dos Municípios, envolvidos nas ações de defesa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867280"/>
            <a:ext cx="8381880" cy="762120"/>
          </a:xfrm>
          <a:prstGeom prst="wedgeRectCallout">
            <a:avLst>
              <a:gd name="adj1" fmla="val -5416"/>
              <a:gd name="adj2" fmla="val -10562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ntidades públicas e privadas, organizações não-governamentais, clubes de serviço e associações divers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371600"/>
            <a:ext cx="861048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ejar e promover a defesa permanente contra desastres naturais ou provocados pelo homem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tuar na iminência e em situações de desastres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revenir ou minimizar danos, socorrer e assistir populações atingidas e recuperar áreas deterioradas por desastr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088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Estrutu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 SINDEC é constituído por órgãos e entidades da Administração Pública Federal, dos Estados, do Distrito Federal e dos Municípios, por entidades privadas e pela comun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struturado sob a forma de um sistema, que se articula nos três níveis de governo, em estreita interação com os órgãos setoriais, órgãos de apoio e com a comunidade.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295280"/>
          <a:ext cx="91440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7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 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2880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828800"/>
            <a:ext cx="1904760" cy="938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8288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655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7432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799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6576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6576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943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5720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572000"/>
            <a:ext cx="2819520" cy="892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08720"/>
            <a:ext cx="4419720" cy="968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486400"/>
            <a:ext cx="1904760" cy="990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464080"/>
            <a:ext cx="2819520" cy="1013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62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920" y="19810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60" y="2819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ssoas atingi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480" y="388620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brigados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400" y="4724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lojad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9520" y="5715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tima fat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2057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760" y="2895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1.81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1000" y="38098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89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8720" y="4724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560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28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520" y="5791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0  - Tor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1320" y="57150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- mal súbi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673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Órgãos envolvidos: SEDEC, INPE, INMET, Exército, Marinha, Aeronáutica, CEDEC, Bombeiros Militar et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7432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1932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ESTRUTURA E FUNCIONAMENTO DO SISTEMA NACIONAL DE DEFESA CIVIL -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038840" cy="201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5249880"/>
            <a:ext cx="8675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PAULO ROBERTO FEREGUETI </a:t>
            </a: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GÓ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– Coronel Bombeiro Milita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Diretor do Departamento de Minimização de Desastr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Secretaria Nacional de Defesa Civil / M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Enchente – Jan a Mar/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54296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 es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ingido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o Distrito Feder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24 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5.773 desabrig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1.214 desaloj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9 mort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5.984 casa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046 ponte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239840"/>
          <a:ext cx="9144000" cy="638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9144000" cy="63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523880"/>
            <a:ext cx="91440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nº 8, de 12.02.2004 cria o Comitê Gestor das Ações Federais de Emergência – CG e Comitês Federais nos Estados – C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Emergen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35.000 Kg de aliment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79 kit medicamentos p/cada 3.000 pesso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emergencial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de Reconstruç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 de casas destruí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de casas 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/Recuperação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Nordeste – Ago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76520"/>
            <a:ext cx="76964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N = 29, PE = 44, PB = 5 e AL = 2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264.600 pessoas afet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5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4.0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.000 cobertor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4.0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 caminhões–pipa para PE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57200"/>
            <a:ext cx="91440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- 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"/>
              </a:rPr>
              <a:t>Enchente em Laranjal do Jari/A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057400"/>
            <a:ext cx="6172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70% da área urbana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0% da área rural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00 famílias desabrig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.000 desalojad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1.5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.5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Sudeste – Jan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523880"/>
            <a:ext cx="81532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4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P = 40, RJ = 17 e MG = 4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94.000 desabrigados  (MG = 81.533)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6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.02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bertores, colchonetes, lona plástic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cursos da União:  SP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,7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RJ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,2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e MG =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$ 15,1 milhõ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2095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769608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roduçã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stema Nacional de Defesa Civil –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strutu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447920"/>
            <a:ext cx="8229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scassez de oxigênio devido a greve dos  caminhon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440" y="53352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1999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15364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Martins solicitou intervenção para liberação dos caminhõ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DEC/MT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71360" y="68580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822960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re/inundação: transporte de 17 t medicamentos e 50 t de hipoclorido de sódio em 7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2,4 milhões para AC, MG, ES e RJ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300 mil e enviadas 4.000 cestas de alimentos para o 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76520"/>
            <a:ext cx="81532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am transportados para os Estados de SP e MG, 20 t de donativos arrecadados pela CESIDEC, através de 2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7680" y="76212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3499920"/>
            <a:ext cx="800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www.defesacivil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 Roberto Feregueti Gó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Diretor Deptº de Minimização de Desastres – SEDEC/M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.goes@integracao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61) 414-584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14400" y="276228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retaria Nacional de Defesa Civi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14400" y="228600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inistério da Integração Nacio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830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2495160"/>
            <a:ext cx="73101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00"/>
                </a:solidFill>
                <a:uFillTx/>
                <a:latin typeface="Arial Unicode MS"/>
                <a:ea typeface="Times New Roman"/>
              </a:rPr>
              <a:t>TÍTULO DA ORGANIZAÇÃO FEDERAL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rtigo 5° - Incumbe a cada Estado prover, expensas próprias, as necessidades de seu governo e administração: a União, porém, </a:t>
            </a:r>
            <a:r>
              <a:rPr b="1" lang="pt-BR" sz="30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prestará socorros ao Estado que, em caso de calamidade pública, os solicitar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7400" y="134928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ONSTITUIÇÃO DE 18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25440" y="2466360"/>
            <a:ext cx="787104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TÍTULO I- DA ORGANIZAÇÃ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APÍTULO I - DISPOSIÇÕES PRELIMINAR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5° -  Compete, privativamente a Uniã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XV —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r defesa permanente contra os efeitos da seca nos Estados do Nor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7º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II — Prover as expensas próprias, as necessidades de sua administração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vendo,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ém, a União prestar socorros aos Estados que, em caso de calamidade pública, os solicita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7400" y="128736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3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95240" y="2768760"/>
            <a:ext cx="7850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DEFINE, COMO ENCARGOS NECESSÁRIOS À DEFESA DA PÁTRIA, OS SERVIÇOS DE DEFESA PASSIVA ANTI-AÉRE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90560"/>
            <a:ext cx="8991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ECRETO-LEI Nº 4098, DE 6 DE FEV 1942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09800" y="2746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FUNDAMENTOS LEGAI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1• CICLO EVOLUTIVO (1942 – 1946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851040"/>
            <a:ext cx="2735280" cy="11188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09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FEV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649680"/>
            <a:ext cx="2735280" cy="12016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6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SERVIÇO DE 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26 AGO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128680"/>
            <a:ext cx="180000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CAMPANHAS DE ESCLARECIMENT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vistas, jornais, rádios e film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091120"/>
            <a:ext cx="2519640" cy="1189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ROTEÇÃO DAS POPULÃÇÕ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eber instruçõ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olher-se a abrig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tender aos alarme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ossuir os meios de defesa individu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6049800"/>
            <a:ext cx="2735280" cy="12002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80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NSINO DE DEFESA PASSIV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OUT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97044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5.86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CRIA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30 SET 194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17000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9.37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XTINGUE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17 JUN 194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970600"/>
            <a:ext cx="251928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Organização Sistêmic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União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Estad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UNICÍPIO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erviços Privado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68760"/>
            <a:ext cx="2519640" cy="6415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EDIDAS ESTRUTURAIS E NÃO-ESTRUTURAIS DE PROTEÇÃ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828160" y="2201040"/>
            <a:ext cx="3919680" cy="3457440"/>
          </a:xfrm>
          <a:custGeom>
            <a:avLst/>
            <a:gdLst>
              <a:gd name="textAreaLeft" fmla="*/ 524880 w 3919680"/>
              <a:gd name="textAreaRight" fmla="*/ 3394800 w 391968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4516560" cy="76201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1160" y="0"/>
            <a:ext cx="4711680" cy="76071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4370400"/>
            <a:ext cx="9144000" cy="2319480"/>
          </a:xfrm>
          <a:prstGeom prst="rect">
            <a:avLst/>
          </a:prstGeom>
          <a:solidFill>
            <a:srgbClr val="66ffcc">
              <a:alpha val="25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SO DAS AÇÕES DE RESPOSTA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RAVES CONSEQÜÊNCIAS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SOLUTA FALTA DE PLANEJAMENTO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69720"/>
            <a:ext cx="61214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ANEIRO DE 196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2681280"/>
            <a:ext cx="866772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TITULO I - DA ORGANIZAÇÃO NACIONA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CAPITULO XII - DA COMPETÊNCIA DA UNIÃO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Artigo 8º 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XII — Organizar a defesa permanente contra as calamidades públicas, especialmente, as secas e as inundaçõ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7400" y="162072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67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4040" y="634536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(INCISO XVIII, Artigo 21, CF1988)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9:43:06Z</dcterms:created>
  <dc:creator>Departamento de Defesa Civil</dc:creator>
  <dc:description/>
  <dc:language>en-US</dc:language>
  <cp:lastModifiedBy>Computador</cp:lastModifiedBy>
  <cp:lastPrinted>1999-09-21T18:27:05Z</cp:lastPrinted>
  <dcterms:modified xsi:type="dcterms:W3CDTF">2004-11-29T16:03:01Z</dcterms:modified>
  <cp:revision>199</cp:revision>
  <dc:subject/>
  <dc:title>IMPLANTAÇÃO E OPERACIONALIZAÇÃO DE COMDEC</dc:title>
</cp:coreProperties>
</file>